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1CDF-E4E9-4B5D-8AEF-FBDF218B5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9AB-36F1-432C-8723-46A2F275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E344-AE32-4391-8EBD-B8D7ABA1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E9B0-0108-416F-B614-686EC262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62D8-AB7D-4159-8B22-88376F255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s grade, crosses expectations, broad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BF44-A41F-4E7B-98B3-E0B26664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9912-4DAC-4053-B35E-EFEECD67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3F20-E835-4EDA-B6AB-FEF5972E6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2337-6D58-49C9-AE85-D97D9F0DC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cut out questions under each of the bi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AD4F-013A-47E6-8BCE-EE9C2CC53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 discussion; mention that our first question is warm and fuzzy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89AD-FB8D-45A3-BA5E-AC4182555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open routed vs open-e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B028-377A-4CB7-A92A-5173C120A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 more than 25 minutes on slides 19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6399-E361-4DD8-8289-8B28361AF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C242-30EE-4A9E-8670-694A8ACEE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70E4-4E1C-4C85-BEDB-4F8F44424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2B9C-872B-427F-B1EC-55C6CD5D8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ello. I’m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 am pleased to introduce this Professional Learning for Mathematics Leaders – not just a three-part series initiative – part of Math GAINS 2009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have seen significant capacity building in 7-12 mathematics over the past few years, and we are beginning to see significant gains for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 Just a 3-part PLMLC series” is designed to model successful approaches, provide practice opportunities, and inspire even greater gains in 2009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1142-2988-4D90-BB6C-CCC86B41C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2129-9CB3-47E7-8892-70BFDF708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2F53-C7AC-41E3-A7C3-E7193AD5D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5BE5-E44B-409E-ACFB-FE8566C2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8D16-C610-4329-AA9D-72DA6D2B8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C616-48F2-4DEC-93A5-78E7CFDA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1CAE-4D3B-4BC9-88B6-BAC72402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D5B3-40E8-4884-A334-B4F180AAD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2B58-5C8A-4309-890D-5E420DA76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CKT-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A204-CBDD-4766-913D-472E11815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4C9F-B178-41E4-B936-8F9441377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1BCF-6EB5-4B92-97BD-1B328AEE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D063-8154-4D08-987C-AA22D3DB8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2AC6-7677-49BB-A068-4C748850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EB29-5218-4CED-A8DA-CB171AF3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471C-138B-418F-A7C0-8E761195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303C-27DE-4155-816D-3582BA1A2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736C-2772-4929-967B-FFA498495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22E0-9815-4962-8FBD-404AE9FB8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drop if time is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8641-529F-4C6C-9E68-EB5067F8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B8E1-586D-4F4F-BF13-14419CD8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3A24-1ECE-4383-ACD2-5D623DA5A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2557-892A-4893-A5E0-7DEED474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8620-71C7-476B-87EC-27D61F033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ALSO HAVE QUESTION RE COULD USE 1 POINT, 2 POINTS OR 3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BA87-929C-426C-B3FA-CDFB168CE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ALSO HAVE QUESTION RE COULD USE 1 POINT, 2 POINTS OR 3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F18E-8F6D-4F86-B34B-D25C377D3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7F52-7C19-49C0-B939-F0655896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51EF-989E-4501-88E7-3C7FFEF4A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94A1-4567-42F4-B709-7E140A74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4621-AD16-4FBE-B31B-FD22A6BF1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187D-2226-41BB-B09B-0687E747E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93D6-6923-467F-8C53-365FF9D7D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5B6C-978C-4881-9049-0F5E6C826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B242-F3F8-40B1-BBB2-50B31B3A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473-E36D-4AD9-94D4-E10BF77F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E8D-1508-493F-A634-5781B61D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B1E-7DDD-497E-9194-30CED191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C24-A5EE-4D29-A2C3-0AE3E302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E84-A6C2-4A5A-B4FA-02ED1B02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74B-5A41-4051-BF88-BE3C621D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74D-70D3-456F-876E-9C1E484A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5C2-AFD0-40F8-A8C6-37C8749B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47D-3C8C-4ED2-8BE7-CA4AF4C6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77F-464A-4319-AEDB-4D91F1F5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391-7CA9-4442-9AD6-AB30A15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A01-8F4A-43F0-8650-F9B846E3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AA6-9F02-442A-9CF0-90D2E21B94D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914400" y="4724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Da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0" y="800280"/>
            <a:ext cx="263700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2303640" y="1125360"/>
            <a:ext cx="671328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360" y="573408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isa Suurtamm                                                           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ar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C27C-551D-4B59-97BC-6290E13E49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….one that connect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6873-84E6-4F3D-8400-A70C7581CC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00800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042920" y="12682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 a topic name nor an overall expect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a statement that describ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F93C-B4A5-4C5C-89A8-B410DE83161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16000" y="508464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t provides a lens in which to embed new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27432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et of big ideas for patterns and algebra are listed in the program booklet you’ve recei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6B89-3555-4839-A6C7-28EC6A9367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11280" y="620640"/>
            <a:ext cx="730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34920" y="216864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a look at those idea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at our minds-on activity relates to both BI1 and BI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0D9C-3E69-4AFD-A17E-7BD6EAF46B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: BI #1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represent identified regularities.  There is always an element of repetition that must be described for the pattern to be ext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s always repeat and you have to know how they repeat to exte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: BI #2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ideas in other strands of mathematics are simplified by using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often use patterns to learn ideas about number, geometry, measurement, and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lgebra: BI #3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generalized mathematical relationships and change using words and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ebraic reasoning is a way to understand mathematical relationships that apply to a large group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4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presentations of relationships (e.g. numeric, graphic, geometric, algebraic, verbal, concrete/pictorial) or patterns highlight different characteristics or behaviours and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epresentations of relationships or patterns show different things about the relationship and each might be more useful in a certain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5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mathematical relationships or patterns helps us see that there are classes of relationships or patterns and provides insight into each member of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ing mathematical relationships or patterns helps you see that groups of relationships can behave in very similar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5493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Four Royal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160640"/>
            <a:ext cx="3448080" cy="42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40000" y="1089000"/>
            <a:ext cx="4464000" cy="429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981000"/>
            <a:ext cx="5364000" cy="4280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0000" y="1233360"/>
            <a:ext cx="59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6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information about a mathematical pattern or relationship can sometimes, but not always, allow us to predict other information about that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knowing a few things about a pattern or relationship allows you to predict other things about that pattern or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that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4E8A-5BE1-4F58-8053-4D8FA524AAA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5049-A4A2-4F8B-B559-EADE7A1C7F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143000" y="266688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B0D2-9A83-4B00-9B74-A087A50E09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87280" y="2708280"/>
            <a:ext cx="741708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otice about the question sty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78D9-FFA4-4E69-8B30-A1B102B01D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31640" y="990720"/>
            <a:ext cx="84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368360" y="195264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o you think it’s important that students know that pattern rules need to be defined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Big Idea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E00B-BF76-4E1F-B9E7-9A7351137D4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99072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224000" y="1952640"/>
            <a:ext cx="741672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n you think of other instances where number, geometry, measurement or data topics are taught using pattern concepts? (BI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9FC7-84D7-4132-B42A-934F416E83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981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92000" y="2205000"/>
            <a:ext cx="79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3 show the notion of generalization?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7806-5EBA-402E-8D15-7599AD5B6C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9810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19280" y="1952640"/>
            <a:ext cx="770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4 broaden a student’s understanding of the value of multiple represent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B9FE-EC0F-401B-BB82-8F66E4FD78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87280" y="99072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16000" y="227664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5 help broaden students’ ideas of what kinds of relationships ther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B4A1-D82F-4DDA-8CAD-5BF40614B4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61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ofessional Learning for Mathematics Leaders and Coach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673000" y="44193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just a 3-part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GAINS_Globe_70smws"/>
          <p:cNvPicPr/>
          <p:nvPr/>
        </p:nvPicPr>
        <p:blipFill>
          <a:blip r:embed="rId1"/>
          <a:stretch/>
        </p:blipFill>
        <p:spPr>
          <a:xfrm>
            <a:off x="0" y="800280"/>
            <a:ext cx="26370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27280" y="537372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nistry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16000" y="99072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143000" y="26668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do you think Big Idea 6 is a valuable one for student foc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00D9-D411-4198-B44E-79431E98D9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828800"/>
            <a:ext cx="74170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B1B5-D5FA-4826-9216-B7C3FA16BF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ing big ideas with stu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3000" y="251460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s it easier for them to make connections to prior knowledge and to move forward in new dire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DD54-8392-435C-9E29-67BA8588D2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thinking about the big ideas, it becomes easier to 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develop appropriate less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goal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appropriate consolidating question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o bring them ou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8EC2-646B-417F-8A80-A278BF8C5D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824360" y="1844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611280" y="58428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119700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BF92-DA14-434C-868D-9492459C92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1871640" y="364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792000" y="4292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940360" y="5589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wn Arrow 11"/>
          <p:cNvSpPr/>
          <p:nvPr/>
        </p:nvSpPr>
        <p:spPr>
          <a:xfrm>
            <a:off x="6408720" y="497664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own Arrow 15"/>
          <p:cNvSpPr/>
          <p:nvPr/>
        </p:nvSpPr>
        <p:spPr>
          <a:xfrm rot="16200000">
            <a:off x="4136760" y="3431880"/>
            <a:ext cx="380880" cy="16002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5977080" y="32846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own Arrow 15"/>
          <p:cNvSpPr/>
          <p:nvPr/>
        </p:nvSpPr>
        <p:spPr>
          <a:xfrm rot="5400000">
            <a:off x="4496760" y="5051160"/>
            <a:ext cx="380880" cy="16002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08000" y="55897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onsolidating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81560" y="728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-1189080" y="297000"/>
            <a:ext cx="83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Exampl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4788000" y="4724280"/>
            <a:ext cx="36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99"/>
                </a:solidFill>
                <a:latin typeface="Arial"/>
              </a:rPr>
              <a:t>Students will recognize when a graphical model is more useful and when an algebraic on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250920" y="1341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ic: Linea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87280" y="1881360"/>
            <a:ext cx="42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on:  Determine other representations of a linear relation, given one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own Arrow 11"/>
          <p:cNvSpPr/>
          <p:nvPr/>
        </p:nvSpPr>
        <p:spPr>
          <a:xfrm>
            <a:off x="5904000" y="393372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own Arrow 15"/>
          <p:cNvSpPr/>
          <p:nvPr/>
        </p:nvSpPr>
        <p:spPr>
          <a:xfrm rot="16200000">
            <a:off x="3795840" y="2692440"/>
            <a:ext cx="380880" cy="844560"/>
          </a:xfrm>
          <a:prstGeom prst="downArrow">
            <a:avLst>
              <a:gd name="adj1" fmla="val 50000"/>
              <a:gd name="adj2" fmla="val 26393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4464000" y="137628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 4:  Different representations of relationships or patterns show different things about them and which is more useful depends on the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n Arrow 15"/>
          <p:cNvSpPr/>
          <p:nvPr/>
        </p:nvSpPr>
        <p:spPr>
          <a:xfrm rot="5400000">
            <a:off x="4272840" y="5203080"/>
            <a:ext cx="380880" cy="792000"/>
          </a:xfrm>
          <a:prstGeom prst="downArrow">
            <a:avLst>
              <a:gd name="adj1" fmla="val 50000"/>
              <a:gd name="adj2" fmla="val 24751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257720"/>
            <a:ext cx="44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ou have a graph of a linear relation with x-values from -10 to +10 plotted. You want to know the values of y for specific values of x.  For which values of x would you use the graphical form? the algebraic fo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esson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280" y="386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Consolidating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Relationships Among Big Ideas, Curriculum Expectations and Lesson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2744640"/>
            <a:ext cx="67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 Expect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ve first degree equations with non-fraction coefficients using a variety of tools (eg. 2x + 7 = 6x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63640" y="4149720"/>
            <a:ext cx="756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sk 1:  You are given 3 lesson goals, 3 Big Ideas, and 3 consolidating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termine which lesson goal connects to which Big Idea for this expectation and identify the appropriate consolidation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 #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present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recognize that solving an equation means determining an equivalent equation where the solution is more ob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equations are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– 7 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 + 7 = x +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sure easier to see the unknown value in one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presen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determining an equivalent equation where the solution is more ob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or disagre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 – 4 = 17 + 3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ally th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0.5 in disgu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easier to sol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ht someone say that solving an equation is about finding what easier question is being disgu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a few th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that you know some information (an output and a rule), so you should be able to figure out the other information (the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95228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a few th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that you know some information (an output and a rule), so you should be able to figure out the other information (the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ONE of these two things: x = 2y = 20 OR 3x + 2 = 2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lets you figure out what x is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way 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using the change rule embedded in the equation symbolically to describe one specific example of the effect of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way 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using the change rule embedded in the equation symbolically to describe one specific example of the effect of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suggests that you triple a number and subtract if from 2. What equation would you solve to figure out the input if you know the output is 5?  How would you sol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990720" y="3048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ing at the Posing Powerful Questions Template (PPQT) as a t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D3D4-61EC-4889-969B-05531323B3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Posing Powerfu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18288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C4A7-718E-4BB4-AC65-CA0D667A8B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Picture 3.png"/>
          <p:cNvPicPr/>
          <p:nvPr/>
        </p:nvPicPr>
        <p:blipFill>
          <a:blip r:embed="rId1"/>
          <a:stretch/>
        </p:blipFill>
        <p:spPr>
          <a:xfrm>
            <a:off x="0" y="1979640"/>
            <a:ext cx="8991720" cy="2851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76320" y="2286000"/>
            <a:ext cx="8762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4221000"/>
            <a:ext cx="8763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881360"/>
            <a:ext cx="882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997360"/>
            <a:ext cx="89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924280"/>
            <a:ext cx="889308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icul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first degree equations with non-fraction coefficients using a variety of tools (eg. 2x + 7 = 6x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797360"/>
            <a:ext cx="87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852640"/>
            <a:ext cx="8964720" cy="19083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19320" y="214956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AAE6-F5F0-4943-95C4-686DAA4B35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1193760" y="26067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2147-75DF-476E-808C-042A25CFF34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3ADD-03E7-4F69-93A3-246570D3DA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079640" y="20239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E1C1-A371-48F7-9827-2DBC9E9D63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C737-FF07-4102-8A23-099DBE81BF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6364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63640" y="119700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ar growing pattern starts at -10 and grows very slowly. What might the pattern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9373-4266-4C5D-AD58-F9887E69925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34920" y="407664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w could you convince someone the pattern grows slow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66680" y="289548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d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2C81-D120-42D3-80D4-295A8D5985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Picture 1.png"/>
          <p:cNvPicPr/>
          <p:nvPr/>
        </p:nvPicPr>
        <p:blipFill>
          <a:blip r:embed="rId1"/>
          <a:stretch/>
        </p:blipFill>
        <p:spPr>
          <a:xfrm>
            <a:off x="1447920" y="4114800"/>
            <a:ext cx="7048440" cy="144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237C-B37B-4E65-BB2C-A8F04293AC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0BCC-2D86-402F-9531-8093A922F9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Picture 3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3352680" y="3657600"/>
            <a:ext cx="5639040" cy="30492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2C97-6904-4CBB-8764-7D9CF944928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Picture 4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6781680" y="2514600"/>
            <a:ext cx="2362320" cy="38088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828800" y="2895480"/>
            <a:ext cx="1981080" cy="22860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5410080" y="3429000"/>
            <a:ext cx="312444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905120" y="39625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6934320" y="37339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ACEC-F50D-4C2C-B2A8-D5B6B92EA5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Picture 5.pn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2C34-32E2-4C63-A2AD-1999D48F06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31640" y="404640"/>
            <a:ext cx="67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f this is the goal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0DC5-101F-4604-8F63-A5347AADF6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00" y="1376280"/>
            <a:ext cx="8928000" cy="105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will recognize when it’s useful to use generalization when describing a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5373720"/>
            <a:ext cx="8964720" cy="105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ebraic reasoning is a way to understand mathematical relationships that apply to a large group of sit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2673360"/>
            <a:ext cx="8964720" cy="244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iculum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linear growing patterns, using a variety of tools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predictions about linear growing patterns, through investigation, with concret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pattern rules that generate a pattern by adding or subtracting a constant or multiply or dividing by a constant to get the next term with pattern rules that use the term number to describe the general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00" y="1305000"/>
            <a:ext cx="8928000" cy="1152360"/>
          </a:xfrm>
          <a:prstGeom prst="rect">
            <a:avLst/>
          </a:prstGeom>
          <a:solidFill>
            <a:srgbClr val="ffff99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337000"/>
            <a:ext cx="9144000" cy="107964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673360"/>
            <a:ext cx="9144000" cy="2448000"/>
          </a:xfrm>
          <a:prstGeom prst="rect">
            <a:avLst/>
          </a:prstGeom>
          <a:solidFill>
            <a:srgbClr val="ffff99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29BF-E3E4-49DB-A375-6F3631EF79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Minds 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D8E8-A9F8-49A7-A330-8409B11027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Picture 3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"/>
          <p:cNvSpPr/>
          <p:nvPr/>
        </p:nvSpPr>
        <p:spPr>
          <a:xfrm>
            <a:off x="3352680" y="3657600"/>
            <a:ext cx="5639040" cy="30492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Acti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997C-5888-4E25-BEEA-8F209681BAC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Picture 4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6781680" y="2514600"/>
            <a:ext cx="2362320" cy="38088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828800" y="2895480"/>
            <a:ext cx="1981080" cy="22860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410080" y="3429000"/>
            <a:ext cx="312444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905120" y="39625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934320" y="37339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Consolidati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66680" y="289548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7CB5-A801-463D-BF6C-8F8E3812DCD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63640" y="476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Picture 1.pn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162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16000" y="4575240"/>
            <a:ext cx="84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this stat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ay someone figures out terms 3, 4, 5 and 6 might be very different from the way that person figures out term 100 becaus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6000" y="4400640"/>
            <a:ext cx="8748720" cy="2457360"/>
          </a:xfrm>
          <a:prstGeom prst="rect">
            <a:avLst/>
          </a:prstGeom>
          <a:solidFill>
            <a:srgbClr val="ffff99">
              <a:alpha val="3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19280" y="19890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C127-3B62-4E57-8B16-E86F1187A8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3"/>
          <p:cNvSpPr/>
          <p:nvPr/>
        </p:nvSpPr>
        <p:spPr>
          <a:xfrm>
            <a:off x="1066680" y="990720"/>
            <a:ext cx="74170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E5AF-356E-4BE2-B6E6-C2B6D55B3A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1066680" y="9907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9AAE-40C5-47E4-B504-ED20BECCD1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250920" y="18900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ask: Using the Posing Question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58920" y="1665360"/>
            <a:ext cx="84978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 a partner, choose 1 of these goa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cus them to relate more explicitly to one or more of the big ide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rite a possible consolidating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009-DE29-496A-8924-4A06C72505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79280" y="836640"/>
            <a:ext cx="83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Identify properties of linear 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592280"/>
            <a:ext cx="8964720" cy="138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will recognize why any two points on a line can be used to determine the slope and how that can b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141720"/>
            <a:ext cx="8928000" cy="174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iculum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, through investigation, various formulas for the slope of a line segment or a line and use the formulas to determine the slope of a line segment or a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110200"/>
            <a:ext cx="8893080" cy="174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 allow us to predict other information about that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216000" y="800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Picture 1.pn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16000" y="4329000"/>
            <a:ext cx="8712000" cy="1747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ictures, numbers, words, or graphs and explain why it doesn’t matter if x-values are 1 apart or 2 apart or even 20 apart to calculate a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16000" y="800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Picture 1.pn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16000" y="4329000"/>
            <a:ext cx="8712000" cy="1937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a situation that a linear relation would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how to change one thing about it so that a linear relation doesn’t work any more as a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9280" y="1233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oup A &amp; B 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(Liisa &amp; Linda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547640" y="38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roup C &amp; 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(Trish &amp; Chr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066680" y="18288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a lesson in the resource you brou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a partner to restate the goal to focus more on a big i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4C60-2F6E-4D4C-8F0D-81879E458F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6364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863640" y="1197000"/>
            <a:ext cx="7416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near growing pattern starts at -10 and grows very slowly. What might the pattern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C429-0FAD-4C20-8BA2-CAED55F380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971640" y="30337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What do you think the important underlying math idea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066680" y="182880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consolidating questions to match your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EACF-B6C7-46EE-81C3-0F26100A23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066680" y="243828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e PPQT  to record all of your think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5B07-5DD2-45AC-B29F-CEAA08C3A3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66680" y="236232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k over to someone you’ve not talked to bef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755-519B-4737-B321-DB49883B6B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066680" y="23623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one idea that came up that reinforces what you already do when creating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69A4-5E4A-4504-88E3-589E6A273F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143000" y="190512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might change how you creat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9EC5-16A0-4183-B7AE-532A1399031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86364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63640" y="1197000"/>
            <a:ext cx="7416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near growing pattern starts at -10 and grows very slowly. What might the pattern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CD5-8929-406A-B081-6EE368FA39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324972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What do you think the important underlying math idea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0560" y="4797360"/>
            <a:ext cx="829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066680" y="175248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akes sense that there are a lot of linear patterns that start with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ext matters in deciding how fast a pattern grows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2D65-3619-410E-8CCB-27D80F7AD1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2:28:27Z</dcterms:created>
  <dc:creator>PSteele</dc:creator>
  <dc:description/>
  <dc:language>en-US</dc:language>
  <cp:lastModifiedBy>PSteele</cp:lastModifiedBy>
  <dcterms:modified xsi:type="dcterms:W3CDTF">2009-10-11T18:58:08Z</dcterms:modified>
  <cp:revision>293</cp:revision>
  <dc:subject/>
  <dc:title>Slide 1</dc:title>
</cp:coreProperties>
</file>